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85D-D982-4D45-AF29-752AC911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CF5-D1A3-4337-A4E8-F260977B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DA6-2F05-4C38-9DAF-14DEBAD6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E20-3642-4C29-9A9F-24C8C7CB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3BC-DACF-4DEB-81BE-5A9493A3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B4F-2E7E-4D1D-8B81-AC7F5730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9E2-9036-4582-A49C-08508BC7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E13-719C-47AB-94EC-568A8653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E0D-0EED-4724-B39C-544C655A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4A9-7F21-4BAF-93B6-B3F32ECD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3A2-DC9E-49EC-A92B-038C659C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2C2-03A1-4DC0-B8DC-D21D7D7A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452C-7BFA-4465-ACBA-AC975A129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add narration to a slides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lide to be nar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Record Nar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et Micropho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Narra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Narration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Current Slide or Firs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– Click – Talk –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clearly into the micr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Pause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black exit screen when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ing Nar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im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Tim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on’t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timing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soun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narration will override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991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7:34:21Z</dcterms:created>
  <dc:creator>klanders</dc:creator>
  <dc:description/>
  <dc:language>en-US</dc:language>
  <cp:lastModifiedBy>klanders</cp:lastModifiedBy>
  <dcterms:modified xsi:type="dcterms:W3CDTF">2008-01-18T21:32:06Z</dcterms:modified>
  <cp:revision>9</cp:revision>
  <dc:subject/>
  <dc:title>Adding Narration to a Slideshow</dc:title>
</cp:coreProperties>
</file>